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1B2-C06C-4AF8-9EA2-44A8721B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3BC-4F68-4AA8-B955-4134D998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347-899E-4603-A8FB-C80F2E9D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CC4-A776-4AAF-A160-E6AC7002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A49E-0774-419C-BAE3-74DC7CE4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61EC-8115-49E9-AEAF-7A35D114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52CD-5092-4D85-B9E5-68D198C9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373E-F0A7-4848-9F4F-E2E1ACE7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BA77-880F-4AD6-8371-880FDC8E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39DE-0444-4F74-ABC1-6DFD841B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AC98-6F31-4381-8205-EB5136B5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2BD-72FD-4CED-B996-76872640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2C5D-5257-46E9-9DD0-3A0DC374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5EDD-7E1E-4C17-800E-7307DB7F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D75F-F362-48C7-A5A2-92AD3860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0956-2174-40B3-810D-B274CDAB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60AC-81F7-4378-819B-B84BB953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4F4B-4D38-470C-BA29-027BF414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639A-598B-4D7E-A462-997D4331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81229-39C0-424D-BD08-4C8D86D1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FF67-8F51-48B5-A462-19B1DA87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CEFFC-7660-4BF1-84F2-AD950A13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ABB-79BD-4755-927F-E797CB32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09D8-D702-4675-AAD8-EA00F057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3AF2-8320-4826-9D2E-F7A2373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54B5-78CB-48A8-961E-1E191744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857C-291C-41A0-BB8F-064C54ED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A662-6C74-47FC-B94A-08F9D7AB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4F47D-12A7-4099-BD9F-F1467D06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60D2-5EA9-418D-8557-6521739F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9EC21-6688-414A-9C32-877C5279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61F2B-F175-474F-9D79-1A81EBE8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5AF4-D226-4B36-A064-8FF3C2AE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5ED-A679-4407-AD35-C4B4903A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7BAB-7663-4DB1-A83B-06A2ACE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86C0E-B861-4B20-A086-C8FB8968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33BB-01B6-4B33-B76C-349F84B0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003AE-628A-4FE4-B5DF-0E336869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A9A2-D092-4686-B17F-BCC8820C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C60A-547C-4124-8836-2BD92E3F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9D44-5138-43AA-B2CC-6D356844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DEB6A-ECF2-4080-ACC9-090B8961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F74D-5F0F-446D-BEBA-EEA51E9A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8FF-A744-41FA-92C4-253B57B4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F79-BB8D-4465-84A2-9AC26D98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391-3563-467C-BABD-646AF26F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C1A-3894-4078-98E5-06174360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A0D-2666-42D0-BC73-B2A4970F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0FA6-D9FA-4186-997A-8138A5101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4475-A586-49C0-A4FF-9AAA926D99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FFFD-F5EA-4B5D-BCAD-183632276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B033-BA30-4477-8C16-3E1847C3D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k12onlineconference.org/docs/k12online06-agenda.html" TargetMode="External"/><Relationship Id="rId3" Type="http://schemas.openxmlformats.org/officeDocument/2006/relationships/hyperlink" Target="http://www.umanitoba.ca/learning_technologies/connectivisim/" TargetMode="External"/><Relationship Id="rId4" Type="http://schemas.openxmlformats.org/officeDocument/2006/relationships/hyperlink" Target="http://www.umanitoba.ca/learning_technologies/connectivisim/" TargetMode="External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davidwarlick.com/2cents/" TargetMode="External"/><Relationship Id="rId3" Type="http://schemas.openxmlformats.org/officeDocument/2006/relationships/hyperlink" Target="http://davidwarlick.com/2cents/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TAPIV_Cybersafety1_20_07.ppt" TargetMode="External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learningtimes.org/" TargetMode="External"/><Relationship Id="rId3" Type="http://schemas.openxmlformats.org/officeDocument/2006/relationships/hyperlink" Target="http://learningtimes.org/" TargetMode="External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27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Conferen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-12 Onlin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nectivism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Onlin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dublog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owing community of authors who blog to share ideas around educational technology and other education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dublog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vid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arl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ill Richard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Vicki Dav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209680" y="2514600"/>
            <a:ext cx="1121040" cy="1295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7520040" y="3809880"/>
            <a:ext cx="115092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2209680" y="5029200"/>
            <a:ext cx="968400" cy="141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Book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any on-line book(lets) are being published and made available for free on the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ostly written in collaborative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Book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ing of Age 2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e01318"/>
                </a:solidFill>
                <a:latin typeface="Arial"/>
              </a:rPr>
              <a:t>An Introduction to the NEW worldwide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Lesson Plan Idea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lessonplanspag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school.discovery.com/lessonpla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teach-nology.com/teachers/lesson_pla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microsoft.com/Education/LessonPlans.msp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ounger and younger children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cessing on-line materials – at 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 in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types of risky behaviors are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eing with our young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ust what can we do to make sure th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ve the safest environment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/ Tech Integration Plans d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Presentations start Monday, March 1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structor &amp; Peer assessment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edule of presentations on the wiki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ber Safety; The role of the scho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Do It Yourself" Professional Development &amp; Resourc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Keeping our Children Safe on the Net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3581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yber-safety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84800" y="533520"/>
            <a:ext cx="3498840" cy="525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7432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a picture is worth a thousand wo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Keeping Our Children Saf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is a video wo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523880"/>
            <a:ext cx="8610480" cy="472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ersonal Professional Development for Teachers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ersonal Professional Develop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y as Life-lo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el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asses / Courses /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chnology –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growing opportunities in asynchronous learning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010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echnology Assisted On-line Learn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Con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du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Books /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sson P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Webina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seminars /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arningtime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Conferen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nferences delivered on-line (audio and vide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Key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nd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ve and Archived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27T14:55:51Z</dcterms:modified>
  <cp:revision>38</cp:revision>
  <dc:subject/>
  <dc:title>Welcome to  ED3862</dc:title>
</cp:coreProperties>
</file>